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9FA-50CF-4303-9BB6-CB2CE86B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E8A-F3A0-44EC-A1D8-BEE4517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9F9-0F93-4FB7-98B3-6EA36116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5C6-0B22-43A0-A776-8D58D5E7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B5C0-AD13-4BA9-A10D-821FD261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7D20-C7E0-4E3C-9551-B46B86F0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C221-3EE0-41BC-A58B-44B81D4D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3DA1-73CD-44E2-947F-B7D403F2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6037-B441-4DC2-897C-1A105C3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F047-DB84-4E44-B7D7-FA09A35F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9C24-F4F7-44D4-A377-06CC0C44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403-69E6-424C-B946-4B54EEF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FDDC-94AA-4C58-AE0B-6008837F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F8C1-3087-4B86-B7BC-2C1D619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4D7E-4814-4709-AACB-476DB8FA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E943-C06A-4C2C-9FC6-00864D95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6242-88D9-4FDB-9DF3-7D885A17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3A8-E736-4A4A-B177-08389FC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20C-AB5B-4F0F-9474-DE7A0E49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81F-87B2-4828-9482-B7FD3D1C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244-EC60-49D1-831C-144B5DCB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273-5E3D-4AEE-B11F-B46DC28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AE6-0A4F-4EA2-8982-B63D4D10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4C3-AC17-4B7F-AEBE-22EB941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FDDB-4A6E-4D62-B441-C10F0B598BE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9307-E670-4F38-9170-24F5C42018C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Paulina Chumako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patio es lujoso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733920" cy="2482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Mi pis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piscina 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relaj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anks for watc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Cas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 casa </a:t>
            </a: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único y moderno.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562360" cy="359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cocina es 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amaderado y tropical.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cuarto 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legante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y boni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 Black"/>
              </a:rPr>
              <a:t>Mi patio de recre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patio de recreo incredibl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200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una mi sala. La sala es fabulos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4956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garaje es moderno y nuevo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8320" y="2763720"/>
            <a:ext cx="4343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jardin es bello y grand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648320" y="2344680"/>
            <a:ext cx="4267080" cy="320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 bañ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i cuarto de baño tiene una hermosa vista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3809880" cy="2206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28Z</dcterms:created>
  <dc:creator>chumakovpau</dc:creator>
  <dc:description/>
  <dc:language>en-US</dc:language>
  <cp:lastModifiedBy>chumakovpau</cp:lastModifiedBy>
  <dcterms:modified xsi:type="dcterms:W3CDTF">2012-03-28T17:39:12Z</dcterms:modified>
  <cp:revision>7</cp:revision>
  <dc:subject/>
  <dc:title>La Mansion</dc:title>
</cp:coreProperties>
</file>